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1CB12-3BEE-451F-8A05-3413776B3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CBA48-93DF-4F29-872D-90D64A5E8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E93AD-ACDC-405E-A94A-1404A5524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B86AA-752F-44E6-A4CA-FE6D69D40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2B363-74D0-4329-9346-654B4C65A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F1C5E-2622-483F-801E-D14E7C5D0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32795-82A5-4D8F-807E-5A26E9AB5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CE502-AD67-4088-B064-9B741312E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70379-2A47-4A2A-944A-27176EDF6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3F5F0-765A-402B-A877-BCB580C98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A0D30-4D95-4EDC-84B7-A095E32F6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039A8-634B-49B3-A8EB-456511DDE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FBF1D-69FE-4A39-8A7F-30D5D7C222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1371600"/>
            <a:ext cx="762012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18"/>
                </a:solidFill>
                <a:latin typeface="Times New Roman"/>
              </a:rPr>
              <a:t>THE STUDY DESIGN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08660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066680" y="914400"/>
            <a:ext cx="693432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838080" y="609480"/>
            <a:ext cx="70866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066680" y="762120"/>
            <a:ext cx="708660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676520" y="1600200"/>
            <a:ext cx="624816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143000" y="914400"/>
            <a:ext cx="716292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143000" y="1066680"/>
            <a:ext cx="693432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143000" y="838080"/>
            <a:ext cx="708660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0866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447920" y="3049560"/>
            <a:ext cx="6248160" cy="19796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62120" y="914400"/>
            <a:ext cx="7391160" cy="119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838080" y="838080"/>
            <a:ext cx="746784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914400" y="990720"/>
            <a:ext cx="7315200" cy="1218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1066680" y="2808360"/>
            <a:ext cx="6705720" cy="267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838080" y="762120"/>
            <a:ext cx="7543800" cy="1676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1143000" y="2922480"/>
            <a:ext cx="6477120" cy="256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609480" y="609480"/>
            <a:ext cx="7543800" cy="16639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1219320" y="2801880"/>
            <a:ext cx="6705360" cy="27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7010280" cy="15238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1371600" y="2732040"/>
            <a:ext cx="6477120" cy="30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3915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914400" y="914400"/>
            <a:ext cx="716292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143000" y="2133720"/>
            <a:ext cx="693432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838080" y="838080"/>
            <a:ext cx="746784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723924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5438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838080" y="609480"/>
            <a:ext cx="746784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914400" y="609480"/>
            <a:ext cx="7391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30T13:39:54Z</dcterms:created>
  <dc:creator>david g kleinbaum</dc:creator>
  <dc:description/>
  <dc:language>en-US</dc:language>
  <cp:lastModifiedBy>dkleinb</cp:lastModifiedBy>
  <dcterms:modified xsi:type="dcterms:W3CDTF">2003-09-26T15:50:29Z</dcterms:modified>
  <cp:revision>94</cp:revision>
  <dc:subject/>
  <dc:title>The Art in the State of the Art</dc:title>
</cp:coreProperties>
</file>